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25542"/>
        <c:axId val="60658324"/>
      </c:barChart>
      <c:catAx>
        <c:axId val="89225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58324"/>
        <c:crosses val="autoZero"/>
        <c:auto val="1"/>
        <c:lblAlgn val="ctr"/>
        <c:lblOffset val="100"/>
        <c:noMultiLvlLbl val="0"/>
      </c:catAx>
      <c:valAx>
        <c:axId val="60658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5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144-BD12-4972-94D2-27D56CEB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283-A68D-4042-A8B8-72659BA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4AF-41DC-4B13-A63A-4916C8A6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B46-2EE6-4172-800D-3720DF27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045-34E7-46D3-A97E-B29EF38A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183-E9DC-44E4-81E7-A6F20165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2E1-3D6E-43F0-8350-F7F21066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291-DFF1-42C1-8EAA-D50AE13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B86-DF45-45E0-A107-10A442E1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87C-29A3-43F2-987F-8F9D681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754-8A5C-4089-9B75-4B008FB0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87B-96B4-48D6-9A2B-F59422A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1E8FF-FC3A-43B7-85DC-FB4BBEBE9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