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961706"/>
        <c:axId val="21498950"/>
      </c:barChart>
      <c:catAx>
        <c:axId val="579617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98950"/>
        <c:crosses val="autoZero"/>
        <c:auto val="1"/>
        <c:lblAlgn val="ctr"/>
        <c:lblOffset val="100"/>
        <c:noMultiLvlLbl val="0"/>
      </c:catAx>
      <c:valAx>
        <c:axId val="214989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617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5F73-3C87-432D-B1DA-EDC39D7D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8104-E009-42D8-A642-D761C109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D947-FF6C-4DDB-B6C7-339E651A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F0F0-4696-42EF-B63B-63832B63A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40C4-25D0-4EDD-B5C3-7213BBB5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D90F-F043-463A-BA5F-2EA508CC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755B-9D3A-44AE-BC23-8C49B9D1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01B5-0C07-4D11-945C-D4C1DD98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111E-B62B-42A7-B490-66AFB510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6AE1-6210-4832-9A07-7CED7660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BF67-B768-45A3-B012-FFD95D0C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48EF-74CA-4329-899F-F6D2C411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1AED9-3C11-4A37-AFAB-8EDF7C40B5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