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27293"/>
        <c:axId val="20974048"/>
      </c:barChart>
      <c:catAx>
        <c:axId val="642272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74048"/>
        <c:crosses val="autoZero"/>
        <c:auto val="1"/>
        <c:lblAlgn val="ctr"/>
        <c:lblOffset val="100"/>
        <c:noMultiLvlLbl val="0"/>
      </c:catAx>
      <c:valAx>
        <c:axId val="20974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272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508F-4097-4DB4-89F4-087DA9A2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FF9F-B292-4901-8556-C0A96152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3235-498A-49FB-9128-00F03F9F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8CF4-B131-431A-9D07-77FE4C5B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BA19-AF34-45E5-B0BC-59520164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7B5-24A0-41F8-A36E-D67FB41D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5E6-FCC0-495C-99CA-0F9B3F39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ADCF-4E84-4354-905C-977A261E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A57-DABC-43F7-B151-0240C070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ED8E-0098-4987-A4F6-4C38C38B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8392-D239-4828-AB38-CD2841FF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2A0D-D052-4091-9137-9C9E4D49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5AD37-B20D-44B8-BFBC-CC2631170A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