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136221"/>
        <c:axId val="47940600"/>
      </c:barChart>
      <c:catAx>
        <c:axId val="331362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40600"/>
        <c:crosses val="autoZero"/>
        <c:auto val="1"/>
        <c:lblAlgn val="ctr"/>
        <c:lblOffset val="100"/>
        <c:noMultiLvlLbl val="0"/>
      </c:catAx>
      <c:valAx>
        <c:axId val="479406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1362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3DCE-DDDF-485D-ABAA-5FCABC925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10DA-D044-4DC5-9A02-34BD7097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A06E-2E7D-457C-A9B9-B58A8F2C3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729C-B602-499C-B27B-4130DE49F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F25F-B714-4ED8-94FC-637DC9E7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DECE-9373-4F74-A500-0EACFAD1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50A0-5460-473B-8DF5-6BAADB95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0D28-0DFE-4D72-94A3-397C2CEF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A093-3462-4D49-9B0D-CAFE6924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91B9-D545-4958-B2DB-ABD08394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C0B7-5117-464E-B5EA-CF595E8C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DCFB-C703-434C-A20B-8B1BD6D1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F0110-3A3D-4597-84A3-4BFAD20C4A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