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79122"/>
        <c:axId val="93053921"/>
      </c:barChart>
      <c:catAx>
        <c:axId val="629791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53921"/>
        <c:crosses val="autoZero"/>
        <c:auto val="1"/>
        <c:lblAlgn val="ctr"/>
        <c:lblOffset val="100"/>
        <c:noMultiLvlLbl val="0"/>
      </c:catAx>
      <c:valAx>
        <c:axId val="93053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791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D47-6C75-44FE-B202-C1A1807A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F8D-D0B3-44CA-B5A7-A797710F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A8B-2F4A-4FB6-B1B3-73B09A92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219-05CC-4C48-AC78-66B8D412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62F-B0B6-47C4-85F6-E5E5E483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EF7-CB12-4B2B-B241-93E8A3DB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0BB-E752-4D03-9D6A-63B42E8C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F92-9059-4742-B042-5FBB9B85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977-4DF3-413C-AF5C-09F4EDFA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83C-060F-4602-A670-1B0A6127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B37-4F9C-469A-839A-6DCE443E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145-AB6B-43FA-8637-15CC6DEE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AC123-2DDE-4566-974B-BF2B914267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