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84639"/>
        <c:axId val="97325527"/>
      </c:barChart>
      <c:catAx>
        <c:axId val="88584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5527"/>
        <c:crosses val="autoZero"/>
        <c:auto val="1"/>
        <c:lblAlgn val="ctr"/>
        <c:lblOffset val="100"/>
        <c:noMultiLvlLbl val="0"/>
      </c:catAx>
      <c:valAx>
        <c:axId val="97325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84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5DA-3FF4-4E8A-AEDE-B8E0F4A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508-5FE5-48F5-AC37-650313F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D08-7A7E-4D60-A80B-07E3B3C7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A4D-D80E-47F3-AC13-859B41A2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4B2-9CFA-4934-BA2F-5F098DEB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510-E086-4C27-8A00-103805B0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316-4C49-44BD-8EF0-61D60D3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605-95A9-4B84-BFC4-6D41328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F80-9D59-4A2F-AFB5-3707DFB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9E9-1A4F-4110-94AD-E48D5D9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21-A6F8-4EB3-99EF-948C98F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A78-4247-40DE-819F-158BD0CA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6978C-B6A0-4BE4-BF7A-89EE0A72A9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