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59828"/>
        <c:axId val="48595197"/>
      </c:barChart>
      <c:catAx>
        <c:axId val="88559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95197"/>
        <c:crosses val="autoZero"/>
        <c:auto val="1"/>
        <c:lblAlgn val="ctr"/>
        <c:lblOffset val="100"/>
        <c:noMultiLvlLbl val="0"/>
      </c:catAx>
      <c:valAx>
        <c:axId val="48595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59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664-72A7-4C39-B6A9-28CD28B6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FD8-95DF-4B06-97F0-9D0EE574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8A9-EE7C-4D1E-B4C9-A76571BE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108-C653-4B94-AF0B-1D5FE8E4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4E0-2637-4147-ACA8-7AF6BA15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52B-C4C6-4DFE-BE26-6F2A3F22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761-D52C-406D-9697-47325A54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8CE-A367-4E2A-B2E8-F4ECC3DB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2DD-559E-4A18-8209-F26352EC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FBFB-74CD-4424-8FBB-122516F5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0ED-7EC2-4206-8F4C-81D3E1FC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6E0-8938-41DA-93BC-B8CD71A6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74913-3110-4CC8-B96E-A6A3844089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