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71525"/>
        <c:axId val="27782381"/>
      </c:barChart>
      <c:catAx>
        <c:axId val="6777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2381"/>
        <c:crosses val="autoZero"/>
        <c:auto val="1"/>
        <c:lblAlgn val="ctr"/>
        <c:lblOffset val="100"/>
        <c:noMultiLvlLbl val="0"/>
      </c:catAx>
      <c:valAx>
        <c:axId val="27782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733-F760-4E43-A858-8EB32FB6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D26-8BE7-4A63-BC62-CCB48789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80F-E7AA-46E6-8D72-A3A15CB6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151-3011-4E26-9603-98B55FB4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E47-965B-4536-9F70-FA978016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0B5-42A5-4126-A377-0C3D935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1E1-E8CE-4C39-9784-F75F26A7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B16-3593-4F91-B1CD-ECA35B7A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762-686D-4CE0-8C4A-83BEDF7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B63-BBBE-4BB9-96E1-6106A45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EB4-E554-439A-869E-2CFABC8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10C-CD62-44F5-870A-D764C56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03573-2F68-4766-A9FB-C7F7A23CAF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