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0148"/>
        <c:axId val="52374183"/>
      </c:barChart>
      <c:catAx>
        <c:axId val="5110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4183"/>
        <c:crosses val="autoZero"/>
        <c:auto val="1"/>
        <c:lblAlgn val="ctr"/>
        <c:lblOffset val="100"/>
        <c:noMultiLvlLbl val="0"/>
      </c:catAx>
      <c:valAx>
        <c:axId val="52374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0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096-0A3A-42AA-9460-463670D2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C28-13DD-44B9-9D53-B3DBAD12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275-D408-403E-8648-FD836470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809-C187-45FC-8B42-CB529ADF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7566-805A-459A-91B0-48186384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3AB-C75B-40D6-A5A7-2DBFC730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FD0-83F0-48D2-B5B7-889EFFBA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E27-29CC-40A1-A595-F6FAE206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48C-7033-4DE1-8A23-DC62ED0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5DA-0307-4BA2-9917-3E79922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C76-5845-47DF-85D2-5D25365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B1B-E55D-49D1-BB23-ACB31960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D3982-B12A-417E-920E-91CD050042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