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15550"/>
        <c:axId val="31518501"/>
      </c:barChart>
      <c:catAx>
        <c:axId val="92315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18501"/>
        <c:crosses val="autoZero"/>
        <c:auto val="1"/>
        <c:lblAlgn val="ctr"/>
        <c:lblOffset val="100"/>
        <c:noMultiLvlLbl val="0"/>
      </c:catAx>
      <c:valAx>
        <c:axId val="315185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15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7AA4-6B08-4C0E-8C33-D89741F5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5D0D-9F6B-4D29-81EF-A83317D6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F8D-7596-4753-8A0E-CFC8C5AF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F48B-E364-4759-AAC4-768658B7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6DDD-E243-4962-9181-2DB93A65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0B64-325E-4BE0-BC38-A0649662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0482-0AE4-4DE2-87DF-E5BF3756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7F8-60F5-4146-9D0D-B6646B14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EFD-06FE-4D83-8E95-8E0ACEAD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1BD6-09C9-4DD7-BA78-B34CECEB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7A6-6E19-428C-BFE6-23BD28D8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E5B4-659E-4673-B161-2FC8189E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DE913-6D74-4462-AC8C-7D90551A8B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