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492812"/>
        <c:axId val="76208093"/>
      </c:barChart>
      <c:catAx>
        <c:axId val="91492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08093"/>
        <c:crosses val="autoZero"/>
        <c:auto val="1"/>
        <c:lblAlgn val="ctr"/>
        <c:lblOffset val="100"/>
        <c:noMultiLvlLbl val="0"/>
      </c:catAx>
      <c:valAx>
        <c:axId val="762080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92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819-4CC5-4BE0-BB1E-8783EC9F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536-AB62-44F1-A9FA-B4FA2C46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D4E-4D55-4593-923C-B959E15D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6B4-BD9B-415D-9D4D-F9D7931D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5A3-F476-486C-86B7-67E89A09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195-A703-45B4-AA0C-5A889948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89E6-8B39-44EF-945A-FDC6B566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33EB-E9C0-4AF2-B621-018C578F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F7BA-F301-47A7-BC89-AA2F9AFA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BCFA-6A07-4910-8577-D157CF14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4D6A-5005-4D2A-B4E3-E95E4B9C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0687-F57B-4934-A374-7E02AB9D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CD57E-E6FF-434B-9932-6518B0B0B2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