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59842"/>
        <c:axId val="64966772"/>
      </c:barChart>
      <c:catAx>
        <c:axId val="34359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6772"/>
        <c:crosses val="autoZero"/>
        <c:auto val="1"/>
        <c:lblAlgn val="ctr"/>
        <c:lblOffset val="100"/>
        <c:noMultiLvlLbl val="0"/>
      </c:catAx>
      <c:valAx>
        <c:axId val="64966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59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C63-F6B9-4CBA-8B76-25F96D47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525-0932-4EBD-A738-0542E845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611-BA6E-46E7-9552-B7A3556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265-EE9F-4D51-AC9B-A552EAEA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7B2-A0BE-4D24-86AC-EF97AF16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95D-E2BF-4F16-B82F-21D2C39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B08-E3C5-4352-AF0E-BA1A373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B45-15E7-42D1-B0B1-8F13C78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658-6470-417F-A789-93D27E49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856-50D4-43F6-8C9B-3E9CE98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A9D-1D52-442F-81A2-29B52C25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2EE-B7F3-4ABB-A0E4-E26571B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9F44C-6C9A-46B2-9035-68E7A69CF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