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3443"/>
        <c:axId val="74230962"/>
      </c:barChart>
      <c:catAx>
        <c:axId val="5134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230962"/>
        <c:crosses val="autoZero"/>
        <c:auto val="1"/>
        <c:lblAlgn val="ctr"/>
        <c:lblOffset val="100"/>
        <c:noMultiLvlLbl val="0"/>
      </c:catAx>
      <c:valAx>
        <c:axId val="742309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34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E77E-3ABB-40D6-8268-48E61F70D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3A18-6437-48DB-981A-A160151BA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7684-2C4C-49A2-BF8E-AB1F6DA62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8744-3341-4AE5-8701-5C193A9CE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3979-1D3E-4069-B40A-316CE6D4F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BAD2-B1BF-484A-93E6-91DE734E7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BBA3-E949-42C2-9047-218973066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A829-D3E1-42C2-B732-50C4FD8A4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2E5B-4BBF-4C05-847E-82125A9DA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4C38-5BF5-4C18-9B94-8C09A221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717B-E54F-4056-BB40-14BC40D6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4181-20CE-477D-9C39-9832B535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E6B3F3-4DD0-48E4-B52C-F3FADA2AE76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