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032453"/>
        <c:axId val="13472672"/>
      </c:barChart>
      <c:catAx>
        <c:axId val="370324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72672"/>
        <c:crosses val="autoZero"/>
        <c:auto val="1"/>
        <c:lblAlgn val="ctr"/>
        <c:lblOffset val="100"/>
        <c:noMultiLvlLbl val="0"/>
      </c:catAx>
      <c:valAx>
        <c:axId val="134726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0324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7F1F-4450-4546-BCE1-FBE5FB574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A31E-56C9-414A-970B-D15CAF5F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3DEB-54A7-4A9F-8FFF-67D796BF7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5C46-68FB-4938-97FD-063E17BB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3300-4C9F-428F-8454-81460040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17FC-5452-413F-9B64-E64038B8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9939-0866-49A2-BA85-D6436CBA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476D-C216-4E1E-89F9-BC5C8071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DCF7-970F-43AB-92A6-516E22F3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6F01-3FC0-4878-BE51-B5B669D7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A602-3973-4C80-B174-5A397E83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0855-F3A8-4D45-B999-8DD421F1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0827E-27A9-42BE-8AB6-1AF14490A3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