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35276"/>
        <c:axId val="98054822"/>
      </c:barChart>
      <c:catAx>
        <c:axId val="83635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54822"/>
        <c:crosses val="autoZero"/>
        <c:auto val="1"/>
        <c:lblAlgn val="ctr"/>
        <c:lblOffset val="100"/>
        <c:noMultiLvlLbl val="0"/>
      </c:catAx>
      <c:valAx>
        <c:axId val="98054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35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301-44D9-4ACF-95AE-D082E85F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39A-448B-4871-BDDE-38459231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7F7-E7E7-4042-912C-2B86D65F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013-75D1-417C-AF15-6CF88162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403-77DB-4137-9015-73808A6B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AFD-7182-45EC-AF06-019C9E4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D8E-C6E0-403F-B8A6-A965274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502-23DC-409D-BB83-E896F3A5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283-CAAF-453E-999D-0A832C5D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A89-A23C-4B6B-9E7B-E9865CE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B63-8BCA-4E44-9EA4-48ECD15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494-4E7F-416C-9490-67633DB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8B6E5-612E-4C0E-824F-72377294AA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