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03221"/>
        <c:axId val="28895261"/>
      </c:barChart>
      <c:catAx>
        <c:axId val="19903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95261"/>
        <c:crosses val="autoZero"/>
        <c:auto val="1"/>
        <c:lblAlgn val="ctr"/>
        <c:lblOffset val="100"/>
        <c:noMultiLvlLbl val="0"/>
      </c:catAx>
      <c:valAx>
        <c:axId val="28895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03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8DA-4AA0-4D4F-8DA0-6030E6C0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659-E342-4B6A-8FF3-7DC74278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F7B-630E-452A-85A8-3EA680C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E45-C8E6-480F-8A6B-B9106022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BD6-AC9A-42FE-81C1-1E8701C3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761-D24A-4EF8-9681-2C13B958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0EC-0B36-4906-8CAE-6DBE740F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EF6-16E2-4C73-A302-2507CFF9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7BB-7479-4435-8808-747913D1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5BA-2235-40ED-93C2-65EA86F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99E-CBAB-41CB-A5AB-0BDD519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EDC-4263-4656-9639-508AC674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A2819-EC30-447A-8572-09B7EFAA9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