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24993"/>
        <c:axId val="28026783"/>
      </c:barChart>
      <c:catAx>
        <c:axId val="33249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26783"/>
        <c:crosses val="autoZero"/>
        <c:auto val="1"/>
        <c:lblAlgn val="ctr"/>
        <c:lblOffset val="100"/>
        <c:noMultiLvlLbl val="0"/>
      </c:catAx>
      <c:valAx>
        <c:axId val="280267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49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39A1-6525-4DFC-88CA-390CB12B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724B-EF48-40E0-BAE5-98FC340F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3777-F731-4926-B327-469B14E7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811A-6FD4-4DCA-B53D-3F51DAC9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B991-F581-438F-8C0F-CBE06C47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72EE-654E-4566-8FAB-2B6E1F47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C21D-4472-4CB6-8602-F2D444BA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87FF-E16F-4302-BD00-BF9B4297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087F-3E51-42C0-B233-C389AA50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1456-E1F9-4BB5-B2A7-45304921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AB73-A5E8-4A07-95DC-A68CF103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C344-0495-41D0-AD32-DA53A2F8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C36EC-1E9C-406D-995A-D85F5FFAD7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