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18681"/>
        <c:axId val="41627267"/>
      </c:barChart>
      <c:catAx>
        <c:axId val="46518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27267"/>
        <c:crosses val="autoZero"/>
        <c:auto val="1"/>
        <c:lblAlgn val="ctr"/>
        <c:lblOffset val="100"/>
        <c:noMultiLvlLbl val="0"/>
      </c:catAx>
      <c:valAx>
        <c:axId val="41627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8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0BD-7070-4372-B83F-5B184851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F2E-7CE8-4FD8-B666-D5C28F3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C4C-3262-4FA3-872E-0D81C4E6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383-9593-4911-A451-5A029499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83B-9E16-45B3-8C99-16F1E8E3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FC5-9BD1-4C27-AA6F-F5BB1FB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B51-3E8A-44BB-9F75-9EF3F48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CAF-5BE8-449B-AA83-8050337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D3C-4FBE-4BB3-AA67-9264CD4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0C6-CAE3-4323-AF74-57AE469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698-2A7F-4F0B-AA9B-5DAC80A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DF6-396F-4D58-BF75-3BF06FC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BA420-9644-4CCE-B748-3073C9947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