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4215"/>
        <c:axId val="96745487"/>
      </c:barChart>
      <c:catAx>
        <c:axId val="81724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5487"/>
        <c:crosses val="autoZero"/>
        <c:auto val="1"/>
        <c:lblAlgn val="ctr"/>
        <c:lblOffset val="100"/>
        <c:noMultiLvlLbl val="0"/>
      </c:catAx>
      <c:valAx>
        <c:axId val="96745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4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C0B-2B53-45A4-8F73-6E93B100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A7C-76A7-4E03-AF42-2C626491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7FD-A603-4CB5-A244-E64E4258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644-0EB7-48AF-8904-7EDA5F1F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1AE-9FA4-4B30-A4CF-D454951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9FC-58B0-4A13-AECA-08D5D81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47C-D2EA-40F1-8EA9-2E9E25D8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B99-915A-4680-B0A1-BB5A851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418-E761-463B-BE23-AF148AD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925-63ED-4C1F-BD42-28B3F40F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66E-CB6A-494A-9A77-B6BD845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F23-E78D-4DC1-9B32-3452F74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AB70-3751-4D9F-8EA2-0BA773B36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