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70315"/>
        <c:axId val="93003958"/>
      </c:barChart>
      <c:catAx>
        <c:axId val="15870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03958"/>
        <c:crosses val="autoZero"/>
        <c:auto val="1"/>
        <c:lblAlgn val="ctr"/>
        <c:lblOffset val="100"/>
        <c:noMultiLvlLbl val="0"/>
      </c:catAx>
      <c:valAx>
        <c:axId val="93003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70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DD4-306A-41F6-AB4B-18C16D99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5D3-2227-4496-83E4-5DF21148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9EE-B873-4687-9281-F79E39EB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CC6-21B2-42C4-92AC-18BB4AEA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912-EA28-45F6-93D6-6CB26303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349-84A1-4245-9748-4DA512C1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2E5-3003-437F-9D30-E97AAC85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56C-DF4A-478D-A509-84071C98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4F8-36F9-45A1-8056-A4F61349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3BF-8BFC-414E-B01F-4BD534E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C34-105B-4C7D-90D3-9E3959A3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792-8177-486F-A44B-921DB28F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82B13-11FF-482D-B586-7D98943A4B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