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82960"/>
        <c:axId val="70927431"/>
      </c:barChart>
      <c:catAx>
        <c:axId val="11982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27431"/>
        <c:crosses val="autoZero"/>
        <c:auto val="1"/>
        <c:lblAlgn val="ctr"/>
        <c:lblOffset val="100"/>
        <c:noMultiLvlLbl val="0"/>
      </c:catAx>
      <c:valAx>
        <c:axId val="70927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82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A2F-2BFF-406C-849B-C02A7D40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519-9534-4D26-A084-23403C78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933-6921-42A5-9027-3414BA3F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45B-76D2-45FD-ABCA-596072C0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33D-0F47-4BD8-9B87-4EB1450F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1AF-CA81-4B74-8CF4-C080C0AA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749-FC26-4C89-AD21-2769043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563-216F-47D9-B3E7-452D8F1B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8CD-B76B-4D69-A1D9-52A90A1F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35B-B061-4B0A-8829-A74B1DC8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10D-4FAA-4288-8A3A-D928553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940-1A34-4C7D-AF8B-0165A78D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6A566-BB38-46AF-95C5-E585E78D1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