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06649"/>
        <c:axId val="82763249"/>
      </c:barChart>
      <c:catAx>
        <c:axId val="237066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63249"/>
        <c:crosses val="autoZero"/>
        <c:auto val="1"/>
        <c:lblAlgn val="ctr"/>
        <c:lblOffset val="100"/>
        <c:noMultiLvlLbl val="0"/>
      </c:catAx>
      <c:valAx>
        <c:axId val="827632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066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5699-78B6-4797-987A-706F7630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61D-A132-40A8-9148-C71107CC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9750-AC28-47F0-AAEC-117AFBDC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0DD-41C6-4E04-8D35-DE647F95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8E22-FA24-4232-A934-B8C38E72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F90D-745A-4CE4-9B81-7A6BA387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EB8-78F3-46D3-8D0D-C94365D4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6E60-CC3C-4932-920B-78D090B5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827-BCF7-4DA1-A267-E8DDD23F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FCA8-AA0E-4DA6-9B13-F3C42E53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8552-B64E-4844-8B13-9AE8EA94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6ED3-EABE-49BE-8FD7-6D85DBBC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B2890-4E8B-4EE0-9C4F-F41B42287E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