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17895"/>
        <c:axId val="68433632"/>
      </c:barChart>
      <c:catAx>
        <c:axId val="29817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33632"/>
        <c:crosses val="autoZero"/>
        <c:auto val="1"/>
        <c:lblAlgn val="ctr"/>
        <c:lblOffset val="100"/>
        <c:noMultiLvlLbl val="0"/>
      </c:catAx>
      <c:valAx>
        <c:axId val="68433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17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396-DD7C-4B08-A3D5-793415DC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E5E-A0CD-4512-A314-80A588FA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1CD-528B-4B28-990C-AD35BC93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7E1-58B3-4FAD-BD9F-11B5B19B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1A6-E47F-4041-8C7D-633D074E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5B3-239D-416D-BB38-CA53F682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83D-9053-4628-84C2-9795CE36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551-44F4-4518-9794-3D44207E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E6C-3E56-429F-A6C9-2476CBD6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292-E225-402F-922A-D4DDD95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BED-1B76-4535-9C89-106B9AFA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C1A-6317-46AC-87D3-45FFAB0F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D825E-6D7B-455B-AD20-8277A90A97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