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623737"/>
        <c:axId val="59579596"/>
      </c:barChart>
      <c:catAx>
        <c:axId val="37623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79596"/>
        <c:crosses val="autoZero"/>
        <c:auto val="1"/>
        <c:lblAlgn val="ctr"/>
        <c:lblOffset val="100"/>
        <c:noMultiLvlLbl val="0"/>
      </c:catAx>
      <c:valAx>
        <c:axId val="59579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23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1D2-9FA8-4638-AB57-96D925F4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E59-944A-4C75-8152-AB5E52C8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AE4-097A-4D5F-96F6-9CF06887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544E-53D4-4CE3-9640-892BCDE2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0A5-DE0A-407B-8636-FA3AAAAD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56A8-592E-4700-9FFC-2D9076D9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F92-EAC5-4A3D-96A4-9DEFEC4A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6A39-A4C0-4F16-9A05-D5BB5865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BAD-4E7F-4C6C-8E85-E1133DF6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61A-AE8D-48DE-BC56-78ADA1FF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767-DF67-4FF4-8AC0-A40636EE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207-ABC1-43C1-B7B4-362DB779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8AB0A-1E7F-4B62-B0E2-78BC242D51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