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21317"/>
        <c:axId val="75229334"/>
      </c:barChart>
      <c:catAx>
        <c:axId val="87021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29334"/>
        <c:crosses val="autoZero"/>
        <c:auto val="1"/>
        <c:lblAlgn val="ctr"/>
        <c:lblOffset val="100"/>
        <c:noMultiLvlLbl val="0"/>
      </c:catAx>
      <c:valAx>
        <c:axId val="75229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21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289-A242-454D-8D90-72D4408D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281-72C9-481F-90DD-9F10D601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B57-F1F0-44BC-9AF4-2D323864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C31-3DA3-48B6-A20D-70FA25B4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C38-1890-44EA-9C08-6F063D3E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43D-8885-47E0-A024-35F2ECFB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7FE-8D67-4E6D-8A81-938DCD54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7E0-6E01-4761-9CB1-DAAD6087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AF5-2E2C-4072-9FC6-2E45B4C5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3B4-232C-42BB-92A8-B0D8EBB4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3F60-6C5C-4E1E-89F3-B9419049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A68E-2D9F-4744-900C-AA3D0BC9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FF428-97C6-41DA-A2FC-AADCE95349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