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14547"/>
        <c:axId val="6117364"/>
      </c:barChart>
      <c:catAx>
        <c:axId val="33714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7364"/>
        <c:crosses val="autoZero"/>
        <c:auto val="1"/>
        <c:lblAlgn val="ctr"/>
        <c:lblOffset val="100"/>
        <c:noMultiLvlLbl val="0"/>
      </c:catAx>
      <c:valAx>
        <c:axId val="6117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14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FE5-193D-4952-AD39-EF038460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9A0-E77A-4D61-B370-024E7C0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E26-9087-4126-8EE4-A4450C45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AFB-50E5-4856-A73F-C93A7871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3B8-F8F1-4125-8535-ACDB3B65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4C6-D2BE-4ADF-B2E4-B275E443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E85-CC4F-4D97-9A71-7A49FA9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0F7-BFED-40C7-896A-3EBC4381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DCD-3BF1-42BA-8351-EFF5158A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C3B-B41F-4F2D-9688-19E3E0C2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D99-E84F-4987-A254-7747C10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872-5514-4C8F-B954-8F07A92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04E1-7E89-4E93-8D20-4501AEB5B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