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61419"/>
        <c:axId val="10920429"/>
      </c:barChart>
      <c:catAx>
        <c:axId val="47061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20429"/>
        <c:crosses val="autoZero"/>
        <c:auto val="1"/>
        <c:lblAlgn val="ctr"/>
        <c:lblOffset val="100"/>
        <c:noMultiLvlLbl val="0"/>
      </c:catAx>
      <c:valAx>
        <c:axId val="10920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61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6F0-BDA7-4CA3-AD98-6AA9CFC5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B47-0D6B-4977-B9EC-CD0A2F36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DE8-B48B-43D9-90C1-08A4FCA0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107-3628-4827-9FC6-C99280BC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D0B-58D8-483B-9F23-EF867F84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C3B-524A-4F8D-AAF1-A46439DB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678-A57B-4E0B-BEF9-85CE82A6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EC3-B7C3-4B5E-95DE-3F5573DF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C87-DEF5-4198-B451-B1513CB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5BD-E149-4143-BB39-CE7DFFE7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F56-7E5D-4E70-BA4E-8A02EE1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7E5-5FF1-4A2B-B81E-9E6E321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BB9DA-6FEB-49F5-A9E8-D61D84259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