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48742"/>
        <c:axId val="10092886"/>
      </c:barChart>
      <c:catAx>
        <c:axId val="75048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92886"/>
        <c:crosses val="autoZero"/>
        <c:auto val="1"/>
        <c:lblAlgn val="ctr"/>
        <c:lblOffset val="100"/>
        <c:noMultiLvlLbl val="0"/>
      </c:catAx>
      <c:valAx>
        <c:axId val="10092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48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14D-2AF6-46D8-87CC-92C72653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DDF-C6E2-4932-8D2F-0370B507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294-86F1-4345-85A9-48587867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614-9C84-4DFD-9049-0CCEE62B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0F5-020C-4CA5-8E22-FBA8FD21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C9E-4FFA-41E0-9FAB-A8985FFC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125-AD32-400F-B283-65108638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381-5013-472C-8384-73E1D9FD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FA0-0A78-4AAD-863A-471BF34F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09D-A3D7-4CE4-92B3-7AF57869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06D-8E87-40F6-A6B2-26EB4D85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0D5-A8A8-456D-A3A3-6DA83DB1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3B57C-072C-40FE-9D8F-0FDBB6754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